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18772"/>
        <c:axId val="13824758"/>
      </c:barChart>
      <c:catAx>
        <c:axId val="12118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24758"/>
        <c:crosses val="autoZero"/>
        <c:auto val="1"/>
        <c:lblAlgn val="ctr"/>
        <c:lblOffset val="100"/>
        <c:noMultiLvlLbl val="0"/>
      </c:catAx>
      <c:valAx>
        <c:axId val="13824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18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5AB-738D-40CC-A8B5-CB684A0A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0BC-2A9D-4D08-ABDC-3C4B4FA4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FC0-B3DD-4442-BE5A-3236A882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F9F-5992-4875-951D-B734D57E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5A1-740C-49C5-8FF9-96F0463F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AE5-DCC5-4CEB-90F1-0E32DFD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205-9C14-48E6-9AC4-5398AD45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1BE-830E-40E7-8B14-61745727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06E-6308-47A8-8F80-B81DF97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EA5-3A80-40E8-8D8F-1EEBA40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412-B53F-401C-B12F-50DB863E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B1B-90D1-49A7-AB86-AD743015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E45B5-6EFF-446A-AE99-3B8EA05847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