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76336"/>
        <c:axId val="75718705"/>
      </c:barChart>
      <c:catAx>
        <c:axId val="18476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18705"/>
        <c:crosses val="autoZero"/>
        <c:auto val="1"/>
        <c:lblAlgn val="ctr"/>
        <c:lblOffset val="100"/>
        <c:noMultiLvlLbl val="0"/>
      </c:catAx>
      <c:valAx>
        <c:axId val="75718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76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720-8D9F-42B9-A590-5F97FEA4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3DF-47A5-4B7B-A670-56C9CA0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CB6-5C39-44DA-B74F-DBE8E4E4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B24-36F9-4472-8225-E34EA519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A01-0E24-490C-81B6-C52A52F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E26-020E-44D8-92FC-BA30CE02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EB8-F172-4457-B85F-EAF907A8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300-DEDC-4FD6-944B-6FB458FA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648-DBEC-437F-8629-B71F2352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8F2-58A9-4EAE-A2FA-4AEBD51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290-C21D-4FD3-B998-F4BEA92D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467-B7EC-489A-A9A2-D231B70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1D3AE-2D22-4907-AE2E-DFDEEBFAD2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