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282409"/>
        <c:axId val="99425509"/>
      </c:barChart>
      <c:catAx>
        <c:axId val="912824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25509"/>
        <c:crosses val="autoZero"/>
        <c:auto val="1"/>
        <c:lblAlgn val="ctr"/>
        <c:lblOffset val="100"/>
        <c:noMultiLvlLbl val="0"/>
      </c:catAx>
      <c:valAx>
        <c:axId val="994255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824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D1D3-D819-404D-AD0D-A0357E6DF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0EB6-EEA7-4DD3-A04D-C0B9C899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B1B5-CA24-4866-B6F9-E49CB98C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DDAD7-E2CD-4E7F-9363-989FF037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A3C9-56EB-43D5-BC42-DE46CA88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6024-06C2-40D2-AFF2-BFB39430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0565-A40D-4DA5-8A4D-ECBA7C22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AE1F-A64F-4B53-948F-CC7DBC4D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67CB-1AE2-4532-99FC-A523774B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6A1-7E3D-4B57-8F1F-D1A11C74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76D1-B04E-456F-BFFC-10014388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8F4A-6D03-473F-A647-F02DDB43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D71275-9733-4C79-BA59-632C9D0CAE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