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214632"/>
        <c:axId val="91375483"/>
      </c:barChart>
      <c:catAx>
        <c:axId val="642146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75483"/>
        <c:crosses val="autoZero"/>
        <c:auto val="1"/>
        <c:lblAlgn val="ctr"/>
        <c:lblOffset val="100"/>
        <c:noMultiLvlLbl val="0"/>
      </c:catAx>
      <c:valAx>
        <c:axId val="913754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146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FB2A-F12A-4989-90DC-4EA17C13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5744-85EF-4133-9320-DAD07F83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F3F0-DE68-44E2-8828-2883AF9B0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BC1C-3353-492C-A5AF-5D813E773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E3AB-73F7-49EF-B806-5DCDD7AD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5B91-0118-4D4A-BD15-C4FAA468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44C7-917C-45B4-9988-0369F5FB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9634-5A0D-4484-BBC5-583DBCBC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7559-2E20-4D6D-BAF8-4D0D4D65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9FAD-334A-4D05-985D-B5E95904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E645-B198-4C94-A118-EA14362C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115C-5AD6-41AF-BAF4-F362A946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6AF7B-7E29-4CCB-AFF4-6054CEB1FE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