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0806729"/>
        <c:axId val="60547880"/>
      </c:barChart>
      <c:catAx>
        <c:axId val="3080672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547880"/>
        <c:crosses val="autoZero"/>
        <c:auto val="1"/>
        <c:lblAlgn val="ctr"/>
        <c:lblOffset val="100"/>
        <c:noMultiLvlLbl val="0"/>
      </c:catAx>
      <c:valAx>
        <c:axId val="6054788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80672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852FE-F5E2-48CC-AADA-78D57E6F0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26728-6B12-4B59-82E4-A23D0C5A2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47BD1-A920-40E4-B320-FD4D5D0F1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4CE4E-644D-42D9-B6D5-50C651DD2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4E69B-909A-4A42-9147-318E50007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781F1-30A9-4289-A149-3A09212EE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5F32D-8BFD-4E14-9EB9-D0C325128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B854B-2371-4259-95B0-62C60EAFF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4BB61-5824-4C6D-A15E-3CC48DA5E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A9265-EE52-4B34-A228-00E275DAD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8386A-C15B-42A2-9209-83A402CB5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7A09D-2BAA-419C-8FC0-6B4B6AEC7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9E31AC-D546-429E-AD64-09BD0146313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