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91499"/>
        <c:axId val="52634334"/>
      </c:barChart>
      <c:catAx>
        <c:axId val="607914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34334"/>
        <c:crosses val="autoZero"/>
        <c:auto val="1"/>
        <c:lblAlgn val="ctr"/>
        <c:lblOffset val="100"/>
        <c:noMultiLvlLbl val="0"/>
      </c:catAx>
      <c:valAx>
        <c:axId val="526343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914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7DA-BFA1-41C9-B8EE-4033052F4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0D6B-C524-484E-BF4F-9EF956BC9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3154-4C95-4A14-93FA-0357CACA3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CDED-E954-45D7-9670-31964611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C8F-6116-4D0E-BCC5-F4DD4116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AE10-A85D-4C22-970D-E3DAF4E4F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D12B-20C5-4EE9-B1F7-F4B1BC00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A260-60CA-4147-B7E4-2C910AFA4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8348-5959-4019-AFC3-253078035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EB7B-6054-4F72-847E-03535F89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2DF-0B98-46CA-9A3C-1766878C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F37-2FA4-4E1E-8A0B-FB1CE8FB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D6F0F-FED0-4A7F-B439-364E795B14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