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60153"/>
        <c:axId val="18471083"/>
      </c:barChart>
      <c:catAx>
        <c:axId val="97960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1083"/>
        <c:crosses val="autoZero"/>
        <c:auto val="1"/>
        <c:lblAlgn val="ctr"/>
        <c:lblOffset val="100"/>
        <c:noMultiLvlLbl val="0"/>
      </c:catAx>
      <c:valAx>
        <c:axId val="18471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60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8F6-BE16-41B7-B537-09F6A05E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BC8-DE5D-4A73-A40E-077D6B0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165-ECC0-4B08-AB44-5303086D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F51-7AF4-4E11-B76E-9F983557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61E-4067-44B4-B65D-D91862C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FE4-BCF4-462C-8E8F-B7E5E693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480-2A28-4421-82DB-5B6AF4ED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CEE-C23B-41BC-8E24-00FFAC16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7E-DF38-4FEC-9BCF-D429B88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2E5-E869-455A-B8E8-EDD2D75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46B-DCC0-4D01-AF03-24D4E54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0C3-3770-4683-A9C1-73AAAE5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4DF0-794A-42D2-A9B0-35B5CF1379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