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63403"/>
        <c:axId val="21247020"/>
      </c:barChart>
      <c:catAx>
        <c:axId val="41763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47020"/>
        <c:crosses val="autoZero"/>
        <c:auto val="1"/>
        <c:lblAlgn val="ctr"/>
        <c:lblOffset val="100"/>
        <c:noMultiLvlLbl val="0"/>
      </c:catAx>
      <c:valAx>
        <c:axId val="21247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63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D52-9029-466D-B79D-A1B2107C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15A-410B-48FC-80A9-16678D2F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154-3F20-4944-A615-6EF55DE9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67E-7289-478E-A011-7D673A7D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61A-5B31-4773-A7B9-77E1DDE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A30-E600-4634-AE00-88B0AEE2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B4C-23FA-41AA-83D5-97C5BD69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22E-7CA9-463F-803E-773AC4D1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97-CC14-4117-A896-7AA1AE7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4C6-7BDC-4AC8-93BF-9904B828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908-80C9-4C84-AC9C-1758127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34D-FD62-46E3-8B52-BEAC35D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0D5D-7FD8-49EE-B4C9-81A359B05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