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2749821"/>
        <c:axId val="80449089"/>
      </c:barChart>
      <c:catAx>
        <c:axId val="6274982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449089"/>
        <c:crosses val="autoZero"/>
        <c:auto val="1"/>
        <c:lblAlgn val="ctr"/>
        <c:lblOffset val="100"/>
        <c:noMultiLvlLbl val="0"/>
      </c:catAx>
      <c:valAx>
        <c:axId val="80449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74982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5A5F-1929-4D2B-9F93-C4B0EC6112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29649-C926-488E-B457-103452313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9E5D5-0AD7-4F7B-AA5F-B39E3E68E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C3290-8959-4FAC-ADA4-55DB5E492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3CF0-54CE-4E3C-9CEA-BF1683891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E3A49-0A39-4C42-AC11-D58D67E4D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C1FA-08B0-4E02-AFA5-C882FCBAC9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1E9F3-6AAB-42B4-B836-DFEDF2EC9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0DC1-1051-45B6-AABC-EE43E889E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3BD48-3BD6-4870-8700-C7836EC4E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9483-68D5-4F5F-8F27-DB90C457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60BD-54F3-4375-863A-F108087DF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CB64CD-51FC-4A0F-9D0F-821269F4A4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