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467309"/>
        <c:axId val="34987461"/>
      </c:barChart>
      <c:catAx>
        <c:axId val="704673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87461"/>
        <c:crosses val="autoZero"/>
        <c:auto val="1"/>
        <c:lblAlgn val="ctr"/>
        <c:lblOffset val="100"/>
        <c:noMultiLvlLbl val="0"/>
      </c:catAx>
      <c:valAx>
        <c:axId val="349874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673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EE70-7F43-47D0-958F-978BCB7C2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840A-710D-4708-865D-11A38CA9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91CB-9C72-4E98-A15A-42EDB53E5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2D93-D976-4A4A-B479-3B46AD7EA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CFBF-0EA1-4405-968A-E801C71B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E32F-0431-4782-8F2B-24DB7105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C1D2-BB4E-4DAD-B6B5-F73AA0D0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6ED7-4137-43A1-9B41-0EAAD2F5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F025-1FA2-48E1-93F2-8417800A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1F39-886C-4033-8316-80D28085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AE3A-8399-4F38-A00E-DC57C6F2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DFAF-19AD-4C79-9080-B17B3220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437DE-43F7-4A44-BD22-ADF4DD17B5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