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32946"/>
        <c:axId val="30393950"/>
      </c:barChart>
      <c:catAx>
        <c:axId val="36132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93950"/>
        <c:crosses val="autoZero"/>
        <c:auto val="1"/>
        <c:lblAlgn val="ctr"/>
        <c:lblOffset val="100"/>
        <c:noMultiLvlLbl val="0"/>
      </c:catAx>
      <c:valAx>
        <c:axId val="30393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32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2F3-CDC6-432D-A788-9BC34787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691-DD0D-4FCE-8EB4-3D85E55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B46-F7E8-4420-997F-10891984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527-6B29-4267-A269-F1B214D0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1A2-2095-4297-82AB-3C1E107D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594-21F8-4DA5-A8B5-E2BB89B4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478-1A70-4874-8DD3-06C34D8B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1A8-8A5A-438C-8FCD-5D2E9A58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98E-9421-4430-BA5F-F56F5BF3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47D-1788-4D16-804B-297D038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A68-6040-43A9-AE45-E93DABF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CC5-3A1E-450B-97D7-0CFD3EC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0E3A5-1ED1-48A2-9A59-7C0D774B9F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