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42313"/>
        <c:axId val="46962713"/>
      </c:barChart>
      <c:catAx>
        <c:axId val="25442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62713"/>
        <c:crosses val="autoZero"/>
        <c:auto val="1"/>
        <c:lblAlgn val="ctr"/>
        <c:lblOffset val="100"/>
        <c:noMultiLvlLbl val="0"/>
      </c:catAx>
      <c:valAx>
        <c:axId val="46962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42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250-A941-4B84-9A79-605F292E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9B6-8FC2-405C-B8BC-71A85ABA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0A3-E416-4E7A-AADD-B3906FD1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7A4-55BE-4C0F-9C93-0CADB775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0E0-0F6B-44B0-AA63-0517E4D4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5B1-8B63-49A9-9D76-38FDD401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78E-1F2D-40B6-9DE6-B0C4F4B1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C16-95FD-4A47-84F2-3BAFF3DB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168-1870-4E92-BE4E-17771696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C9C-0D25-4175-B7A4-7EDA057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8CC-7DA4-4A96-9BB1-691BACFC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DA2-627D-4DC9-92FD-CA99AFBD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865A1-8CF6-4E93-B4F8-8A4A11D806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