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58981"/>
        <c:axId val="20699476"/>
      </c:barChart>
      <c:catAx>
        <c:axId val="48558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99476"/>
        <c:crosses val="autoZero"/>
        <c:auto val="1"/>
        <c:lblAlgn val="ctr"/>
        <c:lblOffset val="100"/>
        <c:noMultiLvlLbl val="0"/>
      </c:catAx>
      <c:valAx>
        <c:axId val="20699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58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F6F-BC41-4D9A-9BA6-F4BB8C94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28B-599D-4247-8AFD-647BECE7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E57-0D4A-4FBA-AC68-ACBE75F4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70B-EFD9-478C-8533-C1A0648D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E78-30F7-488C-902C-EFEC2446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3F2-CB3A-48F7-A078-735DD741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114-BBBE-46EC-9F8C-5765F504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CB1-2173-488E-813F-04CAADF4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A57-D163-4E08-BD42-B92A44CA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0A1-E58E-4385-B69E-7C427C43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C70-39E9-4ECF-8201-06492003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C83-7F46-4CFF-807D-77CD69FD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97C19-FBA1-4C38-A2BF-7339776F88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