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21916"/>
        <c:axId val="27208522"/>
      </c:barChart>
      <c:catAx>
        <c:axId val="20821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08522"/>
        <c:crosses val="autoZero"/>
        <c:auto val="1"/>
        <c:lblAlgn val="ctr"/>
        <c:lblOffset val="100"/>
        <c:noMultiLvlLbl val="0"/>
      </c:catAx>
      <c:valAx>
        <c:axId val="27208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21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1BB-69DF-49C7-8D22-AECD10E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91A-2F79-4A63-8BB3-1E3C62D7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A35-1640-4208-93F4-D41C5007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6BF-4751-41AB-BDE6-09E7BCF6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86A-87EA-4DE0-8DAF-D9DB9265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2ED-338A-47B1-833B-F17B2A5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EC8-50FF-458B-82CE-F8C7E1CC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E0C-1440-4437-B9F7-33AA6280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F56-1061-4271-B626-7E964B9A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3B5-9212-4E12-B518-9CAADD6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F30-54D0-4C3B-B0C6-8C79B9A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8EB-E116-401B-B550-BECE4A8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3C652-0760-4CE1-9596-413DA7C3E4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