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69685"/>
        <c:axId val="46427567"/>
      </c:barChart>
      <c:catAx>
        <c:axId val="43569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7567"/>
        <c:crosses val="autoZero"/>
        <c:auto val="1"/>
        <c:lblAlgn val="ctr"/>
        <c:lblOffset val="100"/>
        <c:noMultiLvlLbl val="0"/>
      </c:catAx>
      <c:valAx>
        <c:axId val="46427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69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0CC-4696-4A0B-ABD9-7E4C4B00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473-3741-49DB-A5E6-96BF29FD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4D5-5F5D-4303-AE6F-DD9E0177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52A-777C-465A-8A36-29190D5E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DAF-D865-4A74-A148-D6EFB48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62A-757C-4EA3-B5B1-D2FF48C5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520-DB29-440A-8B7E-3C5E5F5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D6E-E9CA-4BE2-B958-B9D95C1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903-92BE-4B7C-80A6-447F736A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F8A-F746-41CA-AEDD-081AA504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FB3-A545-4D9D-A63E-78733B9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B1D-1C9E-40D7-90DF-DD96201A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E24C5-57D0-4866-B3B4-2E88EC9E08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