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89222"/>
        <c:axId val="92406864"/>
      </c:barChart>
      <c:catAx>
        <c:axId val="60889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6864"/>
        <c:crosses val="autoZero"/>
        <c:auto val="1"/>
        <c:lblAlgn val="ctr"/>
        <c:lblOffset val="100"/>
        <c:noMultiLvlLbl val="0"/>
      </c:catAx>
      <c:valAx>
        <c:axId val="92406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89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43B-6110-4A75-B526-23BFFB99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C8C-83AE-4D13-B034-66C5F997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B36-DAAF-4D1D-889B-C0CDBE31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319-8F4C-44F6-A925-32ECD1B3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151-9BAB-4142-AF65-CDE6D117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8B9-D7AD-4F0C-936F-B1E18F96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232-BB1E-4BF4-986A-41B39148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6A1-CE12-416F-88F9-86D1A34B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614-162A-44B1-988A-31ED2F2B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45E-AF82-462D-A80C-8B766A22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5C4-89BA-4095-9FD3-325225A3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817-7DB6-4B5D-B32B-A1E108A9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391F0-C89C-4238-A855-FF37DD6742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