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89425"/>
        <c:axId val="3633229"/>
      </c:barChart>
      <c:catAx>
        <c:axId val="74489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3229"/>
        <c:crosses val="autoZero"/>
        <c:auto val="1"/>
        <c:lblAlgn val="ctr"/>
        <c:lblOffset val="100"/>
        <c:noMultiLvlLbl val="0"/>
      </c:catAx>
      <c:valAx>
        <c:axId val="363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89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C88-B726-4738-81F0-6CA4E0AF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864-7D1A-41CF-8A5B-1FA326EA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CAC-C450-4B3A-ADB9-FF15B574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D53-9E01-485A-9F1F-67440EBC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8AF-9CF0-4A6B-8CD6-AA6DC649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CDF-4F76-4D5E-9316-CCC7DB3D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389-82FB-438A-96B1-12E2A413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E5F-B953-493F-8A1D-E645BAC3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E4C-C481-4C1B-8903-13C378D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F92-100D-4568-8FCD-5092D5A7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678-2F7E-44FC-AABF-B918B47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A68-1F10-43D3-AA44-BA04CE0D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463BC-35BD-46C0-8892-7968DA9AF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