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99390"/>
        <c:axId val="99304042"/>
      </c:barChart>
      <c:catAx>
        <c:axId val="14299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4042"/>
        <c:crosses val="autoZero"/>
        <c:auto val="1"/>
        <c:lblAlgn val="ctr"/>
        <c:lblOffset val="100"/>
        <c:noMultiLvlLbl val="0"/>
      </c:catAx>
      <c:valAx>
        <c:axId val="99304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99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56A-7C01-4E0A-8330-FD56270E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B3B-6E30-4C6A-A151-35F81952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CE9-D77F-446A-AAF8-A40C50B6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AFD-5374-4A37-8353-D83A3689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188-D2C0-404B-A94F-68DF3FF9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ADA-B7DB-4F00-B274-B3BA8BC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534-239C-40EC-8C93-980D8AEB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C0B-B580-4508-8BE1-9F20EA21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08A-F02C-4479-AF8C-E1C73A85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83F-A863-4ACD-9BAD-7EC42434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FDA-ECCD-4FD8-B6B3-07F4D8F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8E9-3946-45AA-9319-1DEC7B5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6F2B3-FE72-46D2-93F5-18848DD2B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