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57709"/>
        <c:axId val="47879607"/>
      </c:barChart>
      <c:catAx>
        <c:axId val="54057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79607"/>
        <c:crosses val="autoZero"/>
        <c:auto val="1"/>
        <c:lblAlgn val="ctr"/>
        <c:lblOffset val="100"/>
        <c:noMultiLvlLbl val="0"/>
      </c:catAx>
      <c:valAx>
        <c:axId val="47879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57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9B8-7DB2-44AA-B061-2DD8E881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441-8135-4FEF-9E4C-814D7CB9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7D3-9FB5-41D2-A14E-0D88C1D0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F0A-FBFC-4CFD-8E19-D987825A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FF3-6562-4971-849F-2E36E74D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C38-FD4E-43C9-B373-118385B0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24B-5DA9-4345-9D64-421DACD0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302-70E3-466B-8EE8-64768C6C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49B-E3E8-410A-8707-2EFF3963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19F-9E33-4B74-8E5E-2D406C1C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AA2-CBE3-43BC-87AE-A4A45125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4B2-7F8F-4B7A-B67B-ED8C018E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42922-1345-4A1A-9D5E-FD2B3FB16E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