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68775"/>
        <c:axId val="87399811"/>
      </c:barChart>
      <c:catAx>
        <c:axId val="69068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99811"/>
        <c:crosses val="autoZero"/>
        <c:auto val="1"/>
        <c:lblAlgn val="ctr"/>
        <c:lblOffset val="100"/>
        <c:noMultiLvlLbl val="0"/>
      </c:catAx>
      <c:valAx>
        <c:axId val="87399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68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12F-B667-4FDC-847F-0FAF9923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12A-C9E7-47B4-82C6-9B572529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13E-076A-49D5-9D01-188E96E8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DF1-5AAC-4B56-8FA1-C23EA152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F62-B64E-400E-920D-FB915DC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2A6-6BF6-4951-AA5D-FC1E4C6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441-5C16-45DA-866C-15056E3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DC7-747A-4BCE-9657-CF13683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706-7CE6-4941-87C7-896537F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20A-56BC-4D5F-BAA0-534BB13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24-D56E-4032-8992-93703DB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114-E5CC-4DE1-8FE6-D124DA8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5870-CF99-4021-AA43-3826EB190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