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28701"/>
        <c:axId val="42666054"/>
      </c:barChart>
      <c:catAx>
        <c:axId val="23528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6054"/>
        <c:crosses val="autoZero"/>
        <c:auto val="1"/>
        <c:lblAlgn val="ctr"/>
        <c:lblOffset val="100"/>
        <c:noMultiLvlLbl val="0"/>
      </c:catAx>
      <c:valAx>
        <c:axId val="42666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28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9A-614E-4BFB-B715-7EEFD02D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7E3-A306-4BE6-A0FF-CB8DB8FA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F3D-F44E-4CFD-9130-9857472E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C20-D2B6-4B0A-937E-8ADA4BA8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C82-273C-4138-9D30-57EA62A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89B-2646-42D1-BE4C-1D4ACCC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E27-B763-4C4D-9E19-4174CDE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CB0-17E8-41E7-AC74-BBFBEBD8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F6D-C008-48E3-99A9-47F88F8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17E-1384-46B8-98A1-629D6A4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878-FC8F-41DD-BCC9-4F2D3DB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89A-EA56-4B7C-A450-BE48CC5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EFDC0-3E95-49F1-8640-27A082A3E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