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6472962"/>
        <c:axId val="20463134"/>
      </c:barChart>
      <c:catAx>
        <c:axId val="2647296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463134"/>
        <c:crosses val="autoZero"/>
        <c:auto val="1"/>
        <c:lblAlgn val="ctr"/>
        <c:lblOffset val="100"/>
        <c:noMultiLvlLbl val="0"/>
      </c:catAx>
      <c:valAx>
        <c:axId val="2046313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47296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9588C-7968-4FBF-B67F-F0D425ACB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2B9AA-7580-460C-92E6-00A52351C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D5B3F-06E9-4332-8789-5CA0D8F43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CF48D-57E4-4CA8-B39D-69884C614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A241E-9187-4F97-A300-4418F2822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572A1-CB74-4BC5-B119-13BE6C144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17ACD-752C-4479-B668-C82A90978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8BF05-86D1-458F-8EA5-7E3A09B86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C2489-2E3A-4EC5-921E-9441236FC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8E4C2-025D-44EE-83D3-740E3A486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F683C-F0FF-4C0D-ACD0-23493D02E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46BB8-260C-4775-B35D-7FA7A3EB2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FC29A3-048A-4282-AA06-B9E9C0CB73C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