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4999"/>
        <c:axId val="5627721"/>
      </c:barChart>
      <c:catAx>
        <c:axId val="52744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7721"/>
        <c:crosses val="autoZero"/>
        <c:auto val="1"/>
        <c:lblAlgn val="ctr"/>
        <c:lblOffset val="100"/>
        <c:noMultiLvlLbl val="0"/>
      </c:catAx>
      <c:valAx>
        <c:axId val="5627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4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E37-6078-4C77-A978-8D17D8CA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F2D-69AE-4972-83A8-83A0573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BB8-196D-4D20-9B38-C65625BB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B99-F74B-4376-9014-13659C27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0D2-0F7F-4D24-86C2-1D0A829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59A-21CB-402A-8816-E693B23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54A-FE0C-4D65-8F7E-625E755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5E4-BDB5-4AC3-ACA3-9FB862D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798-A0B9-45EC-980B-690A88B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C3F-FFB0-45F4-81B0-F15399D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48F-6D1A-4A7F-8F90-9690AA5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9C6-0D3C-4E2D-B455-A812739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28D8E-3490-4E0E-8312-3A9DF7F94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