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0372"/>
        <c:axId val="74259543"/>
      </c:barChart>
      <c:catAx>
        <c:axId val="8080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9543"/>
        <c:crosses val="autoZero"/>
        <c:auto val="1"/>
        <c:lblAlgn val="ctr"/>
        <c:lblOffset val="100"/>
        <c:noMultiLvlLbl val="0"/>
      </c:catAx>
      <c:valAx>
        <c:axId val="74259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F38-8A26-43F1-85C8-362C2FC4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557-0CE2-4590-9524-1DA43BF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EDA-9099-40E1-BFA9-22383706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C08-78D7-4D74-BF32-3EC250EA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2EA-B1D8-4CA6-B0F0-D3CFEFD7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6D2-FE4C-4A01-808D-0D34811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426-2991-46C2-8204-CA74606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9D7-E0B7-437B-864E-F9AA960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AF3-5B6F-4FD3-B43C-3E617A1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264-2DAD-4A7F-9C34-67E312B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529-0C0D-47BE-ADA1-A1DF0AB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643-B294-4175-B9BB-826A1F9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5524-E385-4789-BD2E-D0AACCCE24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