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4018"/>
        <c:axId val="15192073"/>
      </c:barChart>
      <c:catAx>
        <c:axId val="77704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92073"/>
        <c:crosses val="autoZero"/>
        <c:auto val="1"/>
        <c:lblAlgn val="ctr"/>
        <c:lblOffset val="100"/>
        <c:noMultiLvlLbl val="0"/>
      </c:catAx>
      <c:valAx>
        <c:axId val="15192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4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11-2A21-436C-9BDF-D71A7674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250-BF8D-4B13-80FF-BC3A4CA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EF8-DE51-4A41-9085-DDB09C95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86C-1F35-41F9-BF02-B1C7F743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D7F-13B6-4443-BBFE-4359B6C9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CEA-8FB2-4234-BB65-74B871B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27F-4997-471C-A72B-79D4BA6D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F26-248B-4A6B-88A7-2C50B6D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655-CBBA-46D2-9CA4-1657500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F4C-A0B2-4EE7-B5C5-FFE701C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B5B-9B10-40D7-9B33-013F9CC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5D8-8DDA-4EFA-8F0A-90152EB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19C18-42AC-404E-8B27-7E66CCE8E1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