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87543"/>
        <c:axId val="38759307"/>
      </c:barChart>
      <c:catAx>
        <c:axId val="10487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59307"/>
        <c:crosses val="autoZero"/>
        <c:auto val="1"/>
        <c:lblAlgn val="ctr"/>
        <c:lblOffset val="100"/>
        <c:noMultiLvlLbl val="0"/>
      </c:catAx>
      <c:valAx>
        <c:axId val="38759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87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98B-0B4F-4573-B3B3-69A2F205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BDF-DCF1-439E-B23B-83E7123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384-C074-400F-888F-0C49950C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71A-F348-48CE-B1A8-F62F3FEF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592-AE2E-487C-BE81-2A7607F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E8E-B9CE-4E43-9032-CB6BD876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ADC-BEF3-45F5-AB27-DE14525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8A5-E504-419E-BEF8-20202AD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951-F797-4FE2-B420-D5A1961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B32-ACB0-4801-A32A-CE381DC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CC5-E765-4602-950C-5F265E7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21D-6CF6-4F0A-AAA9-85DD5BA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43CA-DA20-4A81-82CF-B32AB59E8A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