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57847"/>
        <c:axId val="20685695"/>
      </c:barChart>
      <c:catAx>
        <c:axId val="11357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85695"/>
        <c:crosses val="autoZero"/>
        <c:auto val="1"/>
        <c:lblAlgn val="ctr"/>
        <c:lblOffset val="100"/>
        <c:noMultiLvlLbl val="0"/>
      </c:catAx>
      <c:valAx>
        <c:axId val="20685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57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8595-7070-46DA-AD60-C3284920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ED3-D7FB-4319-A799-0A219C9A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558-B4A4-4422-8C95-A3A03E7E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E2B-98AD-4FD2-AB6D-E164D47D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4E72-76F6-40B1-9056-55C98B5B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4BA-E534-46EC-AD68-3D0DD26D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B4F6-A650-43C6-870B-C42ECE3B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1EB-6871-4964-B000-3C9DAA11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029-FB0E-42A7-A5D9-A6170573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D4F-B494-4F82-9652-347892E5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C0B-3F11-43EF-9AAB-AEE7EBA7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19C-F279-4F2E-9A94-F3EAFB1A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F6B40-A7C7-4585-B40F-AF04A5DCFA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