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554087"/>
        <c:axId val="19182467"/>
      </c:barChart>
      <c:catAx>
        <c:axId val="265540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82467"/>
        <c:crosses val="autoZero"/>
        <c:auto val="1"/>
        <c:lblAlgn val="ctr"/>
        <c:lblOffset val="100"/>
        <c:noMultiLvlLbl val="0"/>
      </c:catAx>
      <c:valAx>
        <c:axId val="191824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540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BAAE-8462-442D-9EA1-3331395C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18C6-7426-44FF-BE9C-BC81A15A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A539-920C-47AF-AB4A-6637B293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8D05-7AA8-4813-975C-D60C0269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B6E2-93F9-4818-A311-41946FA7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47FB-8A79-4C5D-B568-91506802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B5B2-F86A-4375-86A7-B628EE57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E27F-31A8-491F-B687-0CD76FB1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F23C-34E8-4FC7-A66C-3A4DA396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1A9C-BFF7-4604-93C5-55E686D0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ADF9-51E0-40BB-A002-883BC1A2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707D-C06E-4A46-8950-CB03462B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74084-F6D2-4F54-BBE2-03245061B9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