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1805"/>
        <c:axId val="16922927"/>
      </c:barChart>
      <c:catAx>
        <c:axId val="98151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2927"/>
        <c:crosses val="autoZero"/>
        <c:auto val="1"/>
        <c:lblAlgn val="ctr"/>
        <c:lblOffset val="100"/>
        <c:noMultiLvlLbl val="0"/>
      </c:catAx>
      <c:valAx>
        <c:axId val="16922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1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997-52C4-4776-9934-8A0582F2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B74-E1CC-4986-A182-01F5DFC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CF4-B1D7-4BF7-ACCB-F5BD3560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6D9-4DEF-4368-A213-A18847B8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430-A7D9-4F52-8F20-C2CDF473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890-C812-4EC0-A952-002ED52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5E8-E2C1-4E56-BC2C-75FC9D5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167-3A8E-4D3B-98EE-B12BD970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46E-79B0-485C-8D8E-6535D1A3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D88-6430-4303-8B39-FC520F8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15D-EE4E-4A4E-8F41-BE37767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C22-C107-4830-9762-AC553D3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A3F86-C960-4F9B-BEA2-B75B3BC30F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