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590887"/>
        <c:axId val="70976077"/>
      </c:barChart>
      <c:catAx>
        <c:axId val="745908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76077"/>
        <c:crosses val="autoZero"/>
        <c:auto val="1"/>
        <c:lblAlgn val="ctr"/>
        <c:lblOffset val="100"/>
        <c:noMultiLvlLbl val="0"/>
      </c:catAx>
      <c:valAx>
        <c:axId val="709760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908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041-5C8F-444D-9851-902D7169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593C-A81A-4DE6-B89F-7A72526D4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30B2-7969-4E9D-AFBA-DA290CAB8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D3B1-02B0-4644-B1F1-6EB928DB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656-5C6D-493D-AD6E-BA8D02F7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B786-18A6-4D89-80DD-9F326458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6640-EB9D-4C7F-B521-2564E55A0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8C2C-9F63-4A9F-91C2-E9941653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F139-E65F-498B-9A2D-AA2FEDBB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DE14-FC35-41DB-80E4-FBFFD8EB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B88-D866-46EA-9E3B-0F636399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073A-9857-4CFE-959D-0128DC1B1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CC2FE-5DDE-41BD-BB24-2C70E01F60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