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68943"/>
        <c:axId val="97204991"/>
      </c:barChart>
      <c:catAx>
        <c:axId val="23268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04991"/>
        <c:crosses val="autoZero"/>
        <c:auto val="1"/>
        <c:lblAlgn val="ctr"/>
        <c:lblOffset val="100"/>
        <c:noMultiLvlLbl val="0"/>
      </c:catAx>
      <c:valAx>
        <c:axId val="97204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68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23E-CF15-4243-BC2A-392A129D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5FC-CCC6-4DBE-9C35-DD026B84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37E-CA2E-4243-BB95-0FD46161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EDB-69C5-48DF-830F-B79CC7A6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996-7D31-423F-860C-1384C5A2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B61-2308-4830-92BC-32B77A6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945-6321-48DA-BB3C-11FBDEF2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C10-B372-4DAE-AC7A-08FC6E06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A31-71DC-42DB-A23A-A15E1A79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227-BD52-4FFB-A3F9-51C899FA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BB5-2E38-46B6-84E8-40D5AB1A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6B3-448B-4CEF-A852-FE036210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2D9CC-0E9B-451E-B4C6-70B9010723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