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04366"/>
        <c:axId val="10286831"/>
      </c:barChart>
      <c:catAx>
        <c:axId val="591043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86831"/>
        <c:crosses val="autoZero"/>
        <c:auto val="1"/>
        <c:lblAlgn val="ctr"/>
        <c:lblOffset val="100"/>
        <c:noMultiLvlLbl val="0"/>
      </c:catAx>
      <c:valAx>
        <c:axId val="102868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043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94DC-EE37-49F6-B4F5-38D7B11D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D455-E213-4D5C-89EB-07892DA7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A7E0-5FFA-475E-8958-DA93BD3B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3271-0DFA-4007-AC6A-772497EC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BC14-2E3F-4AFD-9947-89ADF59C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2098-C832-4966-B243-B6626366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F62B-349B-43F1-88B0-7315F446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490E-2372-49A8-BC48-AD80B0F6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7CE9-3546-47E5-B16F-19E7C5F7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517E-B18B-4E89-9578-9E9806F1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39BF-6F8C-4348-8926-C1444F38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AFA8-E9EB-42EF-AF54-83E23023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5E5AA-9667-4611-ADB4-A54100AB29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