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84059"/>
        <c:axId val="97287114"/>
      </c:barChart>
      <c:catAx>
        <c:axId val="66784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87114"/>
        <c:crosses val="autoZero"/>
        <c:auto val="1"/>
        <c:lblAlgn val="ctr"/>
        <c:lblOffset val="100"/>
        <c:noMultiLvlLbl val="0"/>
      </c:catAx>
      <c:valAx>
        <c:axId val="97287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84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992-CE0B-46CF-9A4E-D159FEF1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5C3-86AA-4122-A3BE-8989F679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478-77F3-4DD6-8E05-406CE4F0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314-FCF3-4502-BBA0-FD3EB4CB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1E7-F015-42F4-A22E-438D775B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EF3-1F0A-498A-BD81-F5430909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DC8-2E78-4A96-80D6-0DBF8726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DF0-6953-431A-BE5D-5173A6D7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EF9-ABCA-434A-8DEC-3A8EF8C5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42B-962F-4E15-AAA0-3B102C65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071-554A-4D34-8B45-27CDF03B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B94-46DC-4DA7-BEB4-278EADBC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45B11-5229-4A30-936F-2F1BE12498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