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00806"/>
        <c:axId val="16257270"/>
      </c:barChart>
      <c:catAx>
        <c:axId val="436008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57270"/>
        <c:crosses val="autoZero"/>
        <c:auto val="1"/>
        <c:lblAlgn val="ctr"/>
        <c:lblOffset val="100"/>
        <c:noMultiLvlLbl val="0"/>
      </c:catAx>
      <c:valAx>
        <c:axId val="162572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008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D2F5-58AB-4801-8949-D65785B8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1A5-53FC-4A65-9510-C97884F3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B8D-ACBB-4689-8F2F-F5FDA0C2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768-7D4B-40FC-B22C-1DC31EA5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EA6-339D-411B-B167-A1754590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29A6-703F-4A31-A546-958422E8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0A0-A967-42EC-8648-9556A0CA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F3A-3704-49EF-B5FC-6D7ADE6F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2F2-809B-4A43-B6FC-64489F68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A7A3-1A46-485C-8FB1-C3D75AD1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5239-8736-4573-8CBC-54B3CCBE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1E1-C533-47B4-A0A6-D314EEE7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1C492-9675-4C34-97FE-4D8AAE939C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