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54472"/>
        <c:axId val="66899595"/>
      </c:barChart>
      <c:catAx>
        <c:axId val="87654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9595"/>
        <c:crosses val="autoZero"/>
        <c:auto val="1"/>
        <c:lblAlgn val="ctr"/>
        <c:lblOffset val="100"/>
        <c:noMultiLvlLbl val="0"/>
      </c:catAx>
      <c:valAx>
        <c:axId val="66899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54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C3B-2360-48CA-9265-E759B0B6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642-50E0-44BA-9A81-877BB6C2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16E-8693-4CAA-8271-343287D8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66-245C-4E93-966C-7C05E8F0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A36-FA68-4556-BF3E-0BF3D51C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73F-B929-4BD2-8F54-9B7CEBA3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E24-053E-4083-A4B2-4799CB9A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9DB-BAB2-4175-B358-72A62A3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6F9-013B-4D38-B48D-C9B88B0C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F28-4CF3-4DF4-AA8A-CD4315A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4ED-13E5-4D90-AD0A-601D377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FDA-7C4B-4A07-A421-7A3C6F6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B6A1-BFDB-46F2-A262-B68EE2495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