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38999"/>
        <c:axId val="76895728"/>
      </c:barChart>
      <c:catAx>
        <c:axId val="90738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5728"/>
        <c:crosses val="autoZero"/>
        <c:auto val="1"/>
        <c:lblAlgn val="ctr"/>
        <c:lblOffset val="100"/>
        <c:noMultiLvlLbl val="0"/>
      </c:catAx>
      <c:valAx>
        <c:axId val="76895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8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F7-1066-4ABF-8835-5140B9B9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847-396C-4629-A003-4CCF83B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D13-39CB-4D56-93C0-2270E437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028-2409-4F0E-9DD4-4BB5CC8B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6E4-43EB-4CB1-99A2-94E7D5F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0AE-E958-4A29-A88C-49BDDB7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8C7-B3D8-4980-ADA9-EC49BFB1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A2F-9403-48D8-AA1F-4EB8D66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BDC-5A5A-4579-B84A-2CBEC5D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831-8986-41C9-B5FB-02E3263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882-7235-4178-925B-5E87355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551-5E0C-453E-AF5A-ADF1983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FAA8A-B5E6-46BF-A6F7-D8E6A64A4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