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787233"/>
        <c:axId val="85437313"/>
      </c:barChart>
      <c:catAx>
        <c:axId val="30787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37313"/>
        <c:crosses val="autoZero"/>
        <c:auto val="1"/>
        <c:lblAlgn val="ctr"/>
        <c:lblOffset val="100"/>
        <c:noMultiLvlLbl val="0"/>
      </c:catAx>
      <c:valAx>
        <c:axId val="854373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787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F2DF-1D89-4FD7-8127-60DD91F39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8CBA-8A1B-4D92-921A-E30AA5B1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D830-5E43-45A4-992B-7FB65B1CA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E74B-FB30-4234-8607-E5FE83EE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F04E-8115-4C59-9CB1-8523831E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595B-6D03-475C-AB99-27644009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5D1F-B30C-45D4-90BA-31CDC676D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53C8-2526-4F2A-A6C1-70747053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125F-BF58-4465-83D4-4075FAF1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979B-37A7-4CF8-A00A-0CF13355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1A4D-3A1B-4AC3-B7D6-C0EA437E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65E3-94DB-4C8E-9E20-161D0CF6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AAAD9-3DB2-4BAB-8885-0629C284F7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