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88642"/>
        <c:axId val="10834263"/>
      </c:barChart>
      <c:catAx>
        <c:axId val="26788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34263"/>
        <c:crosses val="autoZero"/>
        <c:auto val="1"/>
        <c:lblAlgn val="ctr"/>
        <c:lblOffset val="100"/>
        <c:noMultiLvlLbl val="0"/>
      </c:catAx>
      <c:valAx>
        <c:axId val="10834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8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C41-8ABF-4D9F-AEF8-7FE8984B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D0B-5EAE-415D-984F-6A5DB2B8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331-A892-4B0E-967C-C7A6D1F4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40B-60ED-484B-ABEF-6004478E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986-3360-4A90-8759-BFEEC0AC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1E2-6DA7-4079-8E86-9DDB94EB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1D6-B810-4610-9F72-DE2D946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726-280D-4F24-AA1D-9390CF7D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81C-D51F-47AC-95A5-67C3ED30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4D3-FF60-427A-BF46-5777825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ECE-DE78-4414-99F6-FAF6608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567-6D43-467D-AE2D-C0FFB2A8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10E83-CDE2-4FA5-8ACE-A24DB5614E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