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27574"/>
        <c:axId val="4299896"/>
      </c:barChart>
      <c:catAx>
        <c:axId val="42927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9896"/>
        <c:crosses val="autoZero"/>
        <c:auto val="1"/>
        <c:lblAlgn val="ctr"/>
        <c:lblOffset val="100"/>
        <c:noMultiLvlLbl val="0"/>
      </c:catAx>
      <c:valAx>
        <c:axId val="4299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27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258-C87A-4C5F-9792-B786B670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B54-F211-4BAA-962A-4BE95B5F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336-7977-400C-9688-703788F4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8DF-F0C7-4461-B4BD-308D6AB4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1C3-E264-4671-BA19-86049BD8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B90-CA5D-4F3B-8F80-2F41F8B8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6BB-E05E-467B-AB53-C03B0EDE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A75-6EE6-48B6-84BE-B03E374B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1B7-FF88-4780-9B34-3143FAF8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691-C076-411E-BDCD-34A4CA66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CA3-694B-4B8D-AB81-F7E0FC0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BF2-9A3C-4365-B3FB-BBF366A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1B24F-A72C-439F-B8CD-3B1A402171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