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16526"/>
        <c:axId val="96331592"/>
      </c:barChart>
      <c:catAx>
        <c:axId val="15616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31592"/>
        <c:crosses val="autoZero"/>
        <c:auto val="1"/>
        <c:lblAlgn val="ctr"/>
        <c:lblOffset val="100"/>
        <c:noMultiLvlLbl val="0"/>
      </c:catAx>
      <c:valAx>
        <c:axId val="96331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16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DBB-76D4-428C-97DE-9E9401DA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2CD-81D5-4221-966A-7A0B98E6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694-79A1-4C60-A701-17CCBC2D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61A-A619-441E-A463-726D3FB3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A3D-D383-43AA-88CA-CA303257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A82-0997-411F-BC79-1671FA97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1B4-A405-486B-BC64-4972ED94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B3E-98FC-40C2-B69B-9A7DBAD5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C06-1E78-4546-BB7A-3CA8BD98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741-BE1B-4FB5-9BBC-79967FE3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AFF-95B4-4FF3-AF57-2EA1EB9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E16-E1C2-4C1F-A6C1-421B11B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C82E4-F947-478B-AB61-EBB713C471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