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2342854"/>
        <c:axId val="35418456"/>
      </c:barChart>
      <c:catAx>
        <c:axId val="223428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418456"/>
        <c:crosses val="autoZero"/>
        <c:auto val="1"/>
        <c:lblAlgn val="ctr"/>
        <c:lblOffset val="100"/>
        <c:noMultiLvlLbl val="0"/>
      </c:catAx>
      <c:valAx>
        <c:axId val="354184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3428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56C6-DA9B-4C10-A6C5-A5B1037F3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4913-DC7F-416A-8141-2075575FA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6AFF2-D386-4167-8201-30DE6710AA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41F-9B2B-4203-8532-0B07606F6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CE55-F3CE-4245-A944-09E803F2D8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07627-5980-4D0B-9C63-08A8C15DA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B802F-4C54-43DE-AAED-C830F56E2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4CCA6-3F17-4D21-A360-A701F072E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4EC8F-9FF1-4847-A216-0EED2DB41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C607-3853-4026-809C-F4562C3F4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31F7-7184-4C78-A51E-12EE8B87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05D-7781-4EAA-AA77-C0D89AA5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EDBD9-46B6-42CB-9E23-BB3FF543453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