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48367"/>
        <c:axId val="57493326"/>
      </c:barChart>
      <c:catAx>
        <c:axId val="17048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93326"/>
        <c:crosses val="autoZero"/>
        <c:auto val="1"/>
        <c:lblAlgn val="ctr"/>
        <c:lblOffset val="100"/>
        <c:noMultiLvlLbl val="0"/>
      </c:catAx>
      <c:valAx>
        <c:axId val="57493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48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D21C-EC0E-429B-AAC2-C2A917B6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BED2-8809-4639-BA10-8BC154B9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5FE6-F95E-4493-96A3-6448993C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59AB-3E86-426F-AC1E-48E9402F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820-005A-48E9-9091-2C207B06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34C6-B471-45B8-9771-B185BA32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6AF-422B-477A-8CFC-B2049CB3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7BBC-5862-46DE-90D8-817CBB2B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7A24-3D78-4E35-9550-F44A7BC8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5ECC-B3EC-48F6-A7C2-ED893EC0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D04D-BC87-46B3-BB80-B2FAAAEF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B3E3-6353-48C2-9E46-8E737A47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9E679-590D-4004-B970-0B15A109D8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