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855724"/>
        <c:axId val="68802273"/>
      </c:barChart>
      <c:catAx>
        <c:axId val="948557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802273"/>
        <c:crosses val="autoZero"/>
        <c:auto val="1"/>
        <c:lblAlgn val="ctr"/>
        <c:lblOffset val="100"/>
        <c:noMultiLvlLbl val="0"/>
      </c:catAx>
      <c:valAx>
        <c:axId val="688022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8557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F5C0-F094-4FD1-A7F9-9826F7892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25B1-E266-47A8-A3EC-8B048CE73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F9ED-2A8A-464A-A8C5-66E1DBC6D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C142-17DA-4EE3-BA5F-911B592D0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C103-C909-45DB-B3ED-3FB56EF52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2E83-2D83-42F8-AD36-3741A428A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49AE-175A-470C-9FE5-FA1B768EA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B19B-F55F-4B09-B34C-B14ACB027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AD05-0709-4CF2-8A1F-6449148B7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DF2C-C482-4D93-93E7-93D1D54AF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043D-36E5-4561-9B54-A5003F1A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4CE4-A654-4739-BC78-1BAC47DE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50B7A4-146A-4FAD-9CD2-5DC19FBD1B7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