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56555"/>
        <c:axId val="60472834"/>
      </c:barChart>
      <c:catAx>
        <c:axId val="66556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2834"/>
        <c:crosses val="autoZero"/>
        <c:auto val="1"/>
        <c:lblAlgn val="ctr"/>
        <c:lblOffset val="100"/>
        <c:noMultiLvlLbl val="0"/>
      </c:catAx>
      <c:valAx>
        <c:axId val="60472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6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59E-6045-4D17-BC4F-A8DFA050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486-639A-4218-9703-7399E90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7C8-614A-4CE8-A91A-96F79D69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176-2873-430F-BB9D-D936923B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3C9-E718-4C0D-8BB8-E6A0DC22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73C-3DFB-4C61-B25B-BA483504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72A-2819-4614-B634-34FB34F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263-3BA4-4597-97EB-1BC8C5D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E91-24BA-4FCE-9715-92EA93FC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E4F-2A02-4C58-AEEB-B2F01DA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B01-088B-4AD8-97E0-DFE5B94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E2B-330B-4088-9813-C80F243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9989-632E-49AF-B165-398659905D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