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284091"/>
        <c:axId val="77500366"/>
      </c:barChart>
      <c:catAx>
        <c:axId val="642840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500366"/>
        <c:crosses val="autoZero"/>
        <c:auto val="1"/>
        <c:lblAlgn val="ctr"/>
        <c:lblOffset val="100"/>
        <c:noMultiLvlLbl val="0"/>
      </c:catAx>
      <c:valAx>
        <c:axId val="7750036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2840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9997-ED0F-4D62-BDAC-299FF7D10E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DCC77-1484-42F2-BA24-C89F9155B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D7A12-A091-40C7-9388-4C50D1D47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3ECE-8357-41C7-8639-726F67208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C46D-8027-4317-B55C-13BFC5143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CCF-010B-41AC-8400-F5518E06F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96B-F2ED-439C-8A79-C0A011832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D118A-F39E-4A9A-87DC-D1C75B1D4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E46C8-8714-45A3-A07C-21552534E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D4C7-F12F-4F23-B392-CE9B2A25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C268-E07F-4AFF-AE1A-2CFDCC73B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491A4-7E95-4CD5-B273-B3C82CECF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CB8C47-C421-42EB-A500-EAEF8BDDF3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