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14270"/>
        <c:axId val="45875506"/>
      </c:barChart>
      <c:catAx>
        <c:axId val="34314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75506"/>
        <c:crosses val="autoZero"/>
        <c:auto val="1"/>
        <c:lblAlgn val="ctr"/>
        <c:lblOffset val="100"/>
        <c:noMultiLvlLbl val="0"/>
      </c:catAx>
      <c:valAx>
        <c:axId val="45875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14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5C8-FE5B-4E9B-AC70-9B229D27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F15B-1236-45DA-BFCA-E7D1D80F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0F4-D808-499E-8632-089B3103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E073-3039-4572-B263-50461DB3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312-1B86-4F0D-B461-64BB70D9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46C-3900-4513-9C64-7BA43BBC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EE4-9513-4D43-88F4-E7698CAB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4B7B-9CFA-41D2-BA30-901FBD7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8F9-7F58-4158-BBFF-84119537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EB1-C86A-492E-AD2E-EDCE8BDB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54A-4515-4C59-9D99-80604E7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28C-C627-4AB1-A9B4-B2CFC3B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0D947-8F9D-472D-A736-804990D304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