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23403"/>
        <c:axId val="99792225"/>
      </c:barChart>
      <c:catAx>
        <c:axId val="59423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2225"/>
        <c:crosses val="autoZero"/>
        <c:auto val="1"/>
        <c:lblAlgn val="ctr"/>
        <c:lblOffset val="100"/>
        <c:noMultiLvlLbl val="0"/>
      </c:catAx>
      <c:valAx>
        <c:axId val="99792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23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19A-5CBA-471A-991C-6CE5E3C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E21-48BF-48F9-9E77-8483FC0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4DB-17B0-41EC-8A0A-F6E2416E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BF5-94F6-4C4C-81C0-AC64E68A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43E-9C0B-46B7-839A-9E108162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A18-2E7D-4402-933D-30409D2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A98-638F-4572-BF46-314C076A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DED-3D50-4893-B0DB-FAAEF6B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832-8C7B-467F-8769-3B776B4B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AE3-961E-4D64-92AE-4FCB8BE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6BE-CF13-47E2-A5C2-3129A54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AAD-9C47-41A3-87E3-38CA825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2A761-2E57-4D79-88A5-B4C1D4CE8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