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79243"/>
        <c:axId val="36294061"/>
      </c:barChart>
      <c:catAx>
        <c:axId val="70679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94061"/>
        <c:crosses val="autoZero"/>
        <c:auto val="1"/>
        <c:lblAlgn val="ctr"/>
        <c:lblOffset val="100"/>
        <c:noMultiLvlLbl val="0"/>
      </c:catAx>
      <c:valAx>
        <c:axId val="36294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79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E13-9238-41D1-8357-90189B89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94F-60F3-4E86-B164-C8E7075F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834-6CF5-44DC-991D-32ACA590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A29-53B4-4470-B288-A475E725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A15-3C00-46B0-9730-B5BA37A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C3A-71D7-4DF4-A896-EB00F93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EA8-A534-4A99-952B-D201FEE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ABC-1255-48FC-B444-D412589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BB2-CF4C-406C-8686-3825012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4C1-CA19-40E9-87A6-11C779E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C6F-B96E-4C4F-84C3-D9C4D34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D37-EE02-4282-ACCE-EE42858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2ED21-DA9C-4FB0-BEF3-EBEE3F2FF6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