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91233"/>
        <c:axId val="12766458"/>
      </c:barChart>
      <c:catAx>
        <c:axId val="60291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6458"/>
        <c:crosses val="autoZero"/>
        <c:auto val="1"/>
        <c:lblAlgn val="ctr"/>
        <c:lblOffset val="100"/>
        <c:noMultiLvlLbl val="0"/>
      </c:catAx>
      <c:valAx>
        <c:axId val="12766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91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698-DE4A-4A46-BF78-F4B5446F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4EA-7D93-4146-AF0F-2AAB8F44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E97-CD24-4988-99BB-6F6FB41D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A83-D975-4ADF-BA3D-F8B445DE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554-E0DA-4F16-A398-9DE8C9F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9BF-640B-4644-93A5-F31F889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C7F-5F0B-4D8F-B224-74BA943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7D4-F142-4404-A9DE-D5362747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640-3EBC-4666-8A65-F52F99FE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C57-583A-4E5A-988E-EC85D58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D99-DDAB-416E-9308-27E56D6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057-EA5D-4C78-BC65-4756D7C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81EC2-C2AF-4180-8E75-7EFD19539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