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88948"/>
        <c:axId val="54364495"/>
      </c:barChart>
      <c:catAx>
        <c:axId val="95588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4495"/>
        <c:crosses val="autoZero"/>
        <c:auto val="1"/>
        <c:lblAlgn val="ctr"/>
        <c:lblOffset val="100"/>
        <c:noMultiLvlLbl val="0"/>
      </c:catAx>
      <c:valAx>
        <c:axId val="54364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88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520-36A2-4E17-9E3F-F7065D08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CF5-183E-45A1-AB3F-B8F4B6E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424-F84E-4610-95A0-42B39C2C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4D4-7D17-445E-9E45-08AFB4F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769-B280-4A5E-9F02-3DBBAF1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4FA-B102-4F50-9AA3-4704E75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0F4-3085-4DF6-AA5C-29E0180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B8E-FE3D-4A47-BC4F-B118506D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D13-1817-4C3B-AA7E-D5ED687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A06-911F-4454-A1AD-5519A2E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42C-5595-4C07-81F0-C7BB1E5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BBE-58A2-418D-B284-0BAA579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21A4-0E77-446D-A506-BB7A5C8263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